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F65-6CCE-4740-8F61-D687261E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5FDC-F35A-4C80-A55D-55A27CDC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0ECA-DE2A-44FF-B2FA-01F538E0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0B7-79D3-49E7-8066-C5AE62CF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54D1-9181-431F-BC5E-20A52F04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E8B6-2261-4D94-B0E1-AD464717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56F8-6F6F-415E-A10B-92B2E41B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178F-79DC-48A2-956A-E813523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D8DF-6D96-43EB-A01E-0EB3E4D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E1DA-F63A-4760-9B71-31A3DF1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7D44-F026-40EC-A602-566BBD1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B02-0129-484C-AA6B-5C0ED093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6124-E049-43D8-BD90-0DF581F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1A61-DD76-4E22-8334-A06E48A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AEAD-EB08-4870-802E-0CDA7742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5848-1A7B-468E-9521-0E7BB9DE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7EA5-7D12-4982-9822-BE9C6C36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A5E-469C-40DF-8D2C-5AEAF05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D0C5-A093-4A20-99B2-38D51CC3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E4E-2D57-4A3A-8218-025F26B8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2F1-140B-4040-BA36-7C706861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F242-9262-4E47-9DAD-3906231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2DE-3AEC-42D7-97EB-68795382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DF39-7278-46F6-B2E3-0871760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4DC-46F4-4C6D-88BA-6A64F26B6B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5C8B-B81A-417F-9F79-FA67BC1C3AD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Unit 4a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and 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and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ologist’s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mily = prima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m / club = secondary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e less personally and more formally with group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icial roles taken by group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s structure allows for attainment of goals (win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2767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sychologist’s 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to the individuals persona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to the individuals wants, needs, strength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atisfies their personal nee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62720" y="380880"/>
            <a:ext cx="2735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Join a Group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thropologist’s Expla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ok at the sub-cultures that coexist in a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s gravitate to the specifics of a sub-culture (team spor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tuals (dance, cheers, taboo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terial culture (jerseys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457200"/>
            <a:ext cx="34862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reaucrac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uctured groups with comprehensive and elaborate 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048120"/>
            <a:ext cx="2921040" cy="32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id operational style – paperwork, super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defined management structure (a.k.a. the “ladder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sonal – you may never meet the top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.g. Tim Horton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124080"/>
            <a:ext cx="320040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, can make personal arrang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1 or 2 levels (e.g. you and your pa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, persona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Mom and Pop dough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2590920"/>
            <a:ext cx="754380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reaucrac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vs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ureaucra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reaucracies continued </a:t>
            </a:r>
            <a:br>
              <a:rPr sz="3800"/>
            </a:br>
            <a:r>
              <a:rPr b="1" lang="fr-FR" sz="3800" spc="-1" strike="noStrike">
                <a:solidFill>
                  <a:srgbClr val="006633"/>
                </a:solidFill>
                <a:latin typeface="Garamond"/>
              </a:rPr>
              <a:t>Anthropologists Perspectiv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Red Tap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eaucrac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of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angl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often prefer to pay more than go through the paperwork to get an exemption (compassionate f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886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s without 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adic bands – kinship structures determine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pressure, not trial and punishment to enforce n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19520" y="1981080"/>
            <a:ext cx="150012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10080" y="3809880"/>
            <a:ext cx="31626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br>
              <a:rPr sz="3800"/>
            </a:br>
            <a:r>
              <a:rPr b="1" lang="fr-FR" sz="3800" spc="-1" strike="noStrike">
                <a:solidFill>
                  <a:srgbClr val="006633"/>
                </a:solidFill>
                <a:latin typeface="Garamond"/>
              </a:rPr>
              <a:t>Psychology Perspective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workers feel little control over their environment, it causes increased 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iston Honda car plant examp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ssembly line car plant is more stressful than the team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decisions abou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ing condi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less stres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 more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7814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ociologist’s Perspectiv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ople form bureaucracies t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hieve complex goals n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wise attain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ltures vary within bureaucrac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ulture within a bureaucracy can have a huge impact on its success as a wh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tibi and Donohue (pulp and paper merg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ve perks vs. lean and 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3 months the executives from Donohue had all re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 went down from $100 to $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200400" cy="30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ureaucracies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ear procedures and fewer personal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ryone knows role explici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goal achie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s society organiz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0552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as efficient as the people who work t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icated “red tap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at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1:08:01Z</dcterms:created>
  <dc:creator>The Owner</dc:creator>
  <dc:description/>
  <dc:language>en-US</dc:language>
  <cp:lastModifiedBy>Customer</cp:lastModifiedBy>
  <dcterms:modified xsi:type="dcterms:W3CDTF">2010-12-06T19:19:17Z</dcterms:modified>
  <cp:revision>3</cp:revision>
  <dc:subject/>
  <dc:title>Unit 4</dc:title>
</cp:coreProperties>
</file>